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ological Persp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 vs.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erged mid-18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w Out of Social Uphea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hinking of Social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ccess of Natural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the Scientific Method to Social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the Term “Sociolog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mchair Philosoph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guste Comte and Positiv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Founder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er and Higher Forms of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ined Phrase “Survival of the Fitte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bert Spencer - Social Darwi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 of Human History is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urgeoisie vs. The Proletari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m Not the Same as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lass 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 Sociology Recognized as Separate Discip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ied How Social Forces Affect Behav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entified “Social Integration” - Degree to Which People are Tied to Soci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le Durkheim and Social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and the Origin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n is Central Force in Social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stant Ethic and Spirit of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 Weber and the Protestant Eth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Value-F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hould be Obj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Should Involve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als and Uses of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- “To Grasp by Insigh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Subjective Mean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khe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sse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Social Facts with Other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Social Facts and Verstehen Fit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stehen and Social F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Groups Influenc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People are Influenced by Their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ho Share a Terr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ing the Broader Soci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itudes of th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00s Sex Roles Rigidly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 People Educated Beyond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riet Martine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Society in America Before Durkheim and Weber Were Bo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 Work was Igno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ism in Early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History: Tension Between Social Reform and Sociologic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e Addams and Social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. E. B. Du Bois and Race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cott Parsons and C. Wright Mills: Theory vs. Re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Tension and Rise of Applied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in North Ame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m - How People Use Symbols in Everyday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the Meaning of Symbols Affects Expec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 Persp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otional Satisf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ve 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Parent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tal 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 of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ning of Div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th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Symbolic Interactio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a Whole Unit Made Up of Interrelated Parts that Work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m, Structural Function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 Merton - Functions and Dys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 of the Sick and Elder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Location - Corners in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Function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rl Marx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inists and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ying 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 and Conflict Theorists -  Ma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ic Interactionists - Micro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ls of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Full Circle: Reform vs. Re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Soc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ersity of Ori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ends Shaping the Fu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—Location in Broad Stream of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graphy—Individual’s  Specific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Wright Mill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 Betw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and B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al Vill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ant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Studies both the Global Network and Our Unique Exper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ow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tural Sciences—Explain and Predict Events in Natural Environ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cial Sciences—Examine Human Relation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ology - Studie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conomics - Studies the Production and Distribution of Goods an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al Science - Studies How People Govern Themselv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sychology - The Study of Processes Within Individ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- Similarities to Other Discip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y and the Other Sci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Why Something Happ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General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ict What will Happ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oal of Sc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F647-64B5-42C5-99FA-79DE0A2361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AEBE-E064-4142-BB6C-6CF05EB98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A2D40-E483-4334-B400-6E492BD2C4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5212C-D2AB-4E6B-9E98-F82BD9B2E8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E104C-F6E2-4FEC-AEEE-5871A54D0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8D377-A533-47E3-A81B-29195F75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84360-1694-4EE2-AFAA-86FDDAD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18C19-C094-4FA7-BDEC-B0DB5E0E7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A349C3-A221-49DA-860E-3E7BAA64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2CA3A-496E-4E23-BABC-D27E0D60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7167E-F0E5-4BCE-B087-831BA03D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6479F-585A-4379-B51C-285233EEBD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D24D81-BF1C-48F6-983A-A03369FB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C6F41D-3115-49DE-9B7E-4C151A8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C843A-1328-4F10-8970-772070F41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FF5275-F0B6-46D6-9DBE-6EC96AA91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9B48B-7A3E-4A4D-AD2C-1DE16B53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D411-1F7E-4FC6-80FF-3FDEA7D15E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1997E-AA0E-43D1-A83B-552890831D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1AF73-11A9-45D8-AB03-FB82A79B2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B1F5E-EFB6-48B0-B901-CF5989BDD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3CC1-AED0-4EDC-BA49-31311B24F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7D217-C95B-450F-99D0-3FF4B0ACF1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8711D-59AA-46B0-A038-9586B7B998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F7463-68D8-45E3-B210-970C71243228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: The Sociological Perspective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9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1E23-B971-4127-AFAF-C629298B0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743200" y="388620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hapter One: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e Sociologic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radition vs. Scie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erged mid-1800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ew Out of Social Upheav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thinking of Social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uccess of Natural Sc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66680" y="609480"/>
            <a:ext cx="7010640" cy="1447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Origins of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6" dur="1" fill="hold"/>
                                  <p:tgtEl>
                                    <p:spTgt spid="11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the Scientific Method to Social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the Term “Sociolog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mchair Philosophy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uguste Comte and Positiv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8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8" dur="1" fill="hold"/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Founder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wer and Higher Form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5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ined Phrase “Survival of the Fittest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66680" y="457200"/>
            <a:ext cx="70106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erbert Spencer - Social Darwinism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ngine of Human History is Class 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ourgeoisie vs. The Proletari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ism Not the Same as Commun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66680" y="380880"/>
            <a:ext cx="59436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Karl Marx and Class Conflic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2" dur="1" fill="hold"/>
                                  <p:tgtEl>
                                    <p:spTgt spid="12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t Sociology Recognized as Separate Discip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udied How Social Forces Affect Behavi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ntified “Social Integration” - Degree to Which People are Tied to Social Group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066680" y="457200"/>
            <a:ext cx="73152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Emile Durkheim and Social Integration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4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8" name="Picture 5" descr="C:\PowerPoint Work\Allyn &amp; Bacon\2005 Work\Henslin 8ed\Artwork\01-01.jpg"/>
          <p:cNvPicPr/>
          <p:nvPr/>
        </p:nvPicPr>
        <p:blipFill>
          <a:blip r:embed="rId1"/>
          <a:stretch/>
        </p:blipFill>
        <p:spPr>
          <a:xfrm>
            <a:off x="533520" y="1295280"/>
            <a:ext cx="8153280" cy="4243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and the Origin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 is Central Force in Social 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testant Ethic and Spirit of Capit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066680" y="457200"/>
            <a:ext cx="76201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x Weber and the Protestant Ethic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3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Value-F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hould be Obj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search Should Involve Repl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oals and Uses of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066680" y="457200"/>
            <a:ext cx="6934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Values in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Research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4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0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4" dur="1" fill="hold"/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6" name="Picture 3" descr="01-02"/>
          <p:cNvPicPr/>
          <p:nvPr/>
        </p:nvPicPr>
        <p:blipFill>
          <a:blip r:embed="rId1"/>
          <a:stretch/>
        </p:blipFill>
        <p:spPr>
          <a:xfrm>
            <a:off x="1228680" y="457200"/>
            <a:ext cx="597060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Verstehen - “To Grasp by Insight”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Importance of Subjective Meaning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urkhei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ressed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Explain Social Facts with Other Social Fact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Social Facts and Verstehen Fit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066680" y="380880"/>
            <a:ext cx="60962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Arial"/>
              </a:rPr>
              <a:t>Verstehen</a:t>
            </a: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 and Social Fact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2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4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0" dur="1" fill="hold"/>
                                  <p:tgtEl>
                                    <p:spTgt spid="13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Groups Influence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People are Influenced by Their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Cultur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6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eople Who Share a Territory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066680" y="457200"/>
            <a:ext cx="57913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eing the Broader Soci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ttitudes of the Ti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1800s Sex Roles Rigidly Defin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Few People Educated Beyond Basic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2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arriet Martineau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Published Society in America Before Durkheim and Weber Were Born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853920" indent="-2854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Her Work was Ignore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066680" y="380880"/>
            <a:ext cx="7543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exism in Early Sociolog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4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6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0" dur="1" fill="hold"/>
                                  <p:tgtEl>
                                    <p:spTgt spid="14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arly History: Tension Between Social Reform and Sociological Analy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ane Addams and Social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. E. B. Du Bois and Race Rel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cott Parsons and C. Wright Mills: Theory vs. Refor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ing Tension and Rise of Applied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066680" y="380880"/>
            <a:ext cx="5486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in North America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2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74" dur="1" fill="hold"/>
                                  <p:tgtEl>
                                    <p:spTgt spid="1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7" name="Picture 3" descr="C:\PowerPoint Work\Allyn &amp; Bacon\2005 Work\Henslin 8ed\Artwork\01-03.jpg"/>
          <p:cNvPicPr/>
          <p:nvPr/>
        </p:nvPicPr>
        <p:blipFill>
          <a:blip r:embed="rId1"/>
          <a:stretch/>
        </p:blipFill>
        <p:spPr>
          <a:xfrm>
            <a:off x="380880" y="1828800"/>
            <a:ext cx="838224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m - How People Use Symbols in Everyda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Symbolic Interactionism - </a:t>
            </a:r>
            <a:br>
              <a:rPr sz="3200"/>
            </a:b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ing the Meaning of Symbols Affects Expec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654120"/>
            <a:ext cx="655344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oretical Perspectiv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1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6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0" dur="1" fill="hold"/>
                                  <p:tgtEl>
                                    <p:spTgt spid="1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motion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ve Symb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Parent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8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4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18" dur="1" fill="hold"/>
                                  <p:tgtEl>
                                    <p:spTgt spid="15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0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8" name="Picture 3" descr="C:\PowerPoint Work\Allyn &amp; Bacon\2005 Work\Henslin 8ed\Artwork\01-04.jpg"/>
          <p:cNvPicPr/>
          <p:nvPr/>
        </p:nvPicPr>
        <p:blipFill>
          <a:blip r:embed="rId1"/>
          <a:stretch/>
        </p:blipFill>
        <p:spPr>
          <a:xfrm>
            <a:off x="914400" y="685800"/>
            <a:ext cx="7010280" cy="53150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arital Ro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erception of Alternativ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The Meaning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9280" indent="-44928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nges in the La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1066680" y="228600"/>
            <a:ext cx="8001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pplying Symbolic Interactionism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Exampl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is a Whole Unit Made Up of Interrelated Parts that Work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m, Structural Function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26600" indent="-42660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obert Merton - Functions and Dysfunc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066680" y="533520"/>
            <a:ext cx="77724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7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2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8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2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the Sick and Elder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66680" y="533520"/>
            <a:ext cx="79250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9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4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Job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om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066680" y="457200"/>
            <a:ext cx="678204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Location - Corners in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" dur="1" fill="hold"/>
                                  <p:tgtEl>
                                    <p:spTgt spid="9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066680" y="349200"/>
            <a:ext cx="7315200" cy="170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Applying Functional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6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6" dur="1" fill="hold"/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43000" y="2057040"/>
            <a:ext cx="7238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flict Theo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sts and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ying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066680" y="1066680"/>
            <a:ext cx="655344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flict Theor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3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8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4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4" dur="1" fill="hold"/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0962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s and Conflict Theorists -  Ma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ymbolic Interactionists - Micro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066680" y="654120"/>
            <a:ext cx="6477120" cy="1403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Levels of Analysi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50" dur="1" fill="hold"/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Full Circle: Reform vs. Resear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ublic Soci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iversity of Orient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iz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066680" y="577800"/>
            <a:ext cx="548640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Shaping the Futur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7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2" dur="5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8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4" dur="5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78" dur="1" fill="hold"/>
                                  <p:tgtEl>
                                    <p:spTgt spid="1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1" name="Picture 3" descr="C:\PowerPoint Work\Allyn &amp; Bacon\2005 Work\Henslin 8ed\Artwork\01-05.jpg"/>
          <p:cNvPicPr/>
          <p:nvPr/>
        </p:nvPicPr>
        <p:blipFill>
          <a:blip r:embed="rId1"/>
          <a:stretch/>
        </p:blipFill>
        <p:spPr>
          <a:xfrm>
            <a:off x="2057400" y="457200"/>
            <a:ext cx="4162320" cy="6019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enslin final"/>
          <p:cNvPicPr/>
          <p:nvPr/>
        </p:nvPicPr>
        <p:blipFill>
          <a:blip r:embed="rId1"/>
          <a:stretch/>
        </p:blipFill>
        <p:spPr>
          <a:xfrm>
            <a:off x="2362320" y="228600"/>
            <a:ext cx="47037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istory—Location in Broad Stream of Ev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iography—Individual’s  Specific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. Wright Mills: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nection Between 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istory and Biography</a:t>
            </a:r>
            <a:endParaRPr b="1" lang="en-US" sz="40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" dur="1" fill="hold"/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74678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Global Vill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stant Commun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Studies both the Global Network and Our Unique Experien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066680" y="380880"/>
            <a:ext cx="7772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rowing 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Global Context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Natural Sciences—Explain and Predict Events in Natural Environ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ocial Sciences—Examine Human Relationship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066680" y="380880"/>
            <a:ext cx="64008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nthropology - Studies Cul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s - Studies the Production and Distribution of Goods and Servic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al Science - Studies How People Govern Themselves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066680" y="380880"/>
            <a:ext cx="662940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4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172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sychology - The Study of Processes Within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ology - Similarities to Other Disciplin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1066680" y="380880"/>
            <a:ext cx="647712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y and the Other Scienc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0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plain Why Something Happe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ke Generaliz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edict What will Happ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066680" y="577800"/>
            <a:ext cx="739152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Goal of Scienc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2" dur="1" fill="hold"/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05:01Z</dcterms:modified>
  <cp:revision>174</cp:revision>
  <dc:subject>Chapter One: The Sociological Perspective</dc:subject>
  <dc:title>Sociology: A Down-to-Earth Approach, 8/e</dc:title>
</cp:coreProperties>
</file>